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28D-66B9-4B08-A959-D3C358A0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D7F-2C5A-4B42-A7E0-6D06454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DDF-C7E6-4061-A8F6-2B51E1E5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372-D6A1-4BF5-B955-82ADADD2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15E-0258-4B9A-AC87-EF7345E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C8A-4F47-4890-91FF-9A04353F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DA8-B4F0-4771-A98A-2EB2AB6A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A23-B303-48DF-A6F7-6A0C788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43F-FFE7-4098-A00C-45CAFB8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2D5-DFFD-40A0-8063-AE34AB5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92B-03A4-4667-B81B-3219B56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F03-735E-4040-9165-43916685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72D3-D367-4ED8-9B81-CFCFAE3D4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das Mediev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te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317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 Arth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24400" y="888840"/>
            <a:ext cx="209520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bin H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228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pas Medieva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65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446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313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11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3:08:44Z</dcterms:created>
  <dc:creator>Claudinei</dc:creator>
  <dc:description/>
  <dc:language>en-US</dc:language>
  <cp:lastModifiedBy>Claudinei</cp:lastModifiedBy>
  <dcterms:modified xsi:type="dcterms:W3CDTF">2009-10-18T14:18:19Z</dcterms:modified>
  <cp:revision>2</cp:revision>
  <dc:subject/>
  <dc:title>Lendas Medievais</dc:title>
</cp:coreProperties>
</file>